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07B8-A08A-4EF5-AA1E-682E0B575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70CF-EB57-42E7-88A7-AF7794708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1C00-CD26-4F36-8166-50315302D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1CD2-3EAE-4BB8-8124-160F2E759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D8AC-F487-4BAA-8957-17662A47B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DEBD-3057-4416-9AA1-D59C582BB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8DE1-3009-41F4-9C3B-C39BE6293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0106-5D00-4D27-8165-D03C9E030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37B4-6C0D-4A7F-AE97-92431C8ED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EA14-2542-46CC-89BA-95F5B9DB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0966-902B-4E27-AFB3-26DF5B36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BA38-2A64-43CF-BFF1-7EF2DBAE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FBFF7-8F0B-49F3-BCD1-44F708FF1A3F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09480" y="819000"/>
          <a:ext cx="1752840" cy="762120"/>
        </p:xfrm>
        <a:graphic>
          <a:graphicData uri="http://schemas.openxmlformats.org/drawingml/2006/table">
            <a:tbl>
              <a:tblPr/>
              <a:tblGrid>
                <a:gridCol w="1752840"/>
              </a:tblGrid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環保署毒管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消防署應變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" name=""/>
          <p:cNvGraphicFramePr/>
          <p:nvPr/>
        </p:nvGraphicFramePr>
        <p:xfrm>
          <a:off x="609480" y="2857680"/>
          <a:ext cx="1676520" cy="914400"/>
        </p:xfrm>
        <a:graphic>
          <a:graphicData uri="http://schemas.openxmlformats.org/drawingml/2006/table">
            <a:tbl>
              <a:tblPr/>
              <a:tblGrid>
                <a:gridCol w="1676520"/>
              </a:tblGrid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北、中、南區稽查大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593640" y="4991040"/>
          <a:ext cx="1524240" cy="685800"/>
        </p:xfrm>
        <a:graphic>
          <a:graphicData uri="http://schemas.openxmlformats.org/drawingml/2006/table">
            <a:tbl>
              <a:tblPr/>
              <a:tblGrid>
                <a:gridCol w="152424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縣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市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)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環保局、消防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638680" y="819000"/>
          <a:ext cx="1904760" cy="838080"/>
        </p:xfrm>
        <a:graphic>
          <a:graphicData uri="http://schemas.openxmlformats.org/drawingml/2006/table">
            <a:tbl>
              <a:tblPr/>
              <a:tblGrid>
                <a:gridCol w="1904760"/>
              </a:tblGrid>
              <a:tr h="838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國防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4483080" y="2349360"/>
          <a:ext cx="3581280" cy="723960"/>
        </p:xfrm>
        <a:graphic>
          <a:graphicData uri="http://schemas.openxmlformats.org/drawingml/2006/table">
            <a:tbl>
              <a:tblPr/>
              <a:tblGrid>
                <a:gridCol w="3581280"/>
              </a:tblGrid>
              <a:tr h="723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陸軍總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3733920" y="3695760"/>
          <a:ext cx="2438280" cy="685800"/>
        </p:xfrm>
        <a:graphic>
          <a:graphicData uri="http://schemas.openxmlformats.org/drawingml/2006/table">
            <a:tbl>
              <a:tblPr/>
              <a:tblGrid>
                <a:gridCol w="243828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作戰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3733920" y="5981760"/>
          <a:ext cx="2438280" cy="628560"/>
        </p:xfrm>
        <a:graphic>
          <a:graphicData uri="http://schemas.openxmlformats.org/drawingml/2006/table">
            <a:tbl>
              <a:tblPr/>
              <a:tblGrid>
                <a:gridCol w="2438280"/>
              </a:tblGrid>
              <a:tr h="628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各作戰分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6934320" y="3695760"/>
          <a:ext cx="1752480" cy="799920"/>
        </p:xfrm>
        <a:graphic>
          <a:graphicData uri="http://schemas.openxmlformats.org/drawingml/2006/table">
            <a:tbl>
              <a:tblPr/>
              <a:tblGrid>
                <a:gridCol w="1752480"/>
              </a:tblGrid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快速研判小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819520" y="1143000"/>
            <a:ext cx="281916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361960" y="1143000"/>
            <a:ext cx="29718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47920" y="1752480"/>
            <a:ext cx="1440" cy="1113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447920" y="1561680"/>
            <a:ext cx="144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4381560"/>
            <a:ext cx="144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447920" y="3772080"/>
            <a:ext cx="144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60720" y="6286680"/>
            <a:ext cx="67932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952880" y="5200560"/>
            <a:ext cx="180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4952880" y="4381560"/>
            <a:ext cx="180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24400" y="5413320"/>
            <a:ext cx="21589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159520" y="3076560"/>
            <a:ext cx="1440" cy="596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66880" y="7002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協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31510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通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562720" y="53737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災情研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46040" y="4457880"/>
            <a:ext cx="4546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通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187680" y="4076640"/>
            <a:ext cx="701640" cy="1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851080" y="2946240"/>
            <a:ext cx="729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命令下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15000" y="1733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通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19320" y="1066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通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1820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通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648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000000"/>
                </a:solidFill>
                <a:uFillTx/>
                <a:latin typeface="Times New Roman"/>
                <a:ea typeface="標楷體"/>
              </a:rPr>
              <a:t>毒化災害國軍處理作業流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7467480" y="4495320"/>
            <a:ext cx="0" cy="1522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4120" y="5410080"/>
            <a:ext cx="0" cy="56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858000" y="6019920"/>
          <a:ext cx="1752480" cy="532800"/>
        </p:xfrm>
        <a:graphic>
          <a:graphicData uri="http://schemas.openxmlformats.org/drawingml/2006/table">
            <a:tbl>
              <a:tblPr/>
              <a:tblGrid>
                <a:gridCol w="1752480"/>
              </a:tblGrid>
              <a:tr h="532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偵消小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2133720" y="53341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5334120"/>
            <a:ext cx="0" cy="985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4032360"/>
            <a:ext cx="0" cy="1454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8120" y="4038480"/>
            <a:ext cx="67932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974320" y="4578480"/>
            <a:ext cx="4546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災情通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340320" y="1676160"/>
            <a:ext cx="1800" cy="6332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6095880" y="1676160"/>
            <a:ext cx="1800" cy="6332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0" y="17524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命令下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951440" y="3092400"/>
            <a:ext cx="1440" cy="596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29000" y="31543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命令下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22840" y="5194440"/>
            <a:ext cx="144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722840" y="4374720"/>
            <a:ext cx="144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345920" y="4419720"/>
            <a:ext cx="4546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命令下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6171840" y="4229280"/>
            <a:ext cx="70164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54480" y="4191120"/>
            <a:ext cx="729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回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467480" y="3099960"/>
            <a:ext cx="1800" cy="561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29240" y="317664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命令下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694640" y="3095280"/>
            <a:ext cx="1440" cy="561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588080" y="32130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回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4191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通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489096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協調連繫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7772400" y="4495320"/>
            <a:ext cx="0" cy="1522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747920" y="4489560"/>
            <a:ext cx="454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協調連繫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172200" y="6324480"/>
            <a:ext cx="64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3T05:51:39Z</dcterms:created>
  <dc:creator>戰情官</dc:creator>
  <dc:description/>
  <dc:language>en-US</dc:language>
  <cp:lastModifiedBy>chem3-7</cp:lastModifiedBy>
  <dcterms:modified xsi:type="dcterms:W3CDTF">2001-10-06T07:33:25Z</dcterms:modified>
  <cp:revision>7</cp:revision>
  <dc:subject/>
  <dc:title>PowerPoint 簡報</dc:title>
</cp:coreProperties>
</file>